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39EFA-4DCA-4F57-8AD0-BD0E1AD512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1F501-DC10-4F82-A346-831619248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E1B83F-D897-4FB5-A9E0-60EF3329C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6951087-C10A-4B3C-A519-6BA6C2494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E4B4CB7-2464-4F00-A190-FA99FEA23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0660D38-063B-4F11-ABD7-54C500AF6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1A3971E-08EC-4459-B488-00752F99F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F6ADFB0-DCCC-442B-B26F-4F1D689C5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CE87664-9D30-437D-87F4-8B94A9BEF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DEEDC1F-D60D-4F88-A68D-4E7DCBED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3E6A8E0-1355-4033-906A-AFB5A52A42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8D92E-0458-401B-9E11-A5E44446C1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98E61-237B-4482-9E6B-2CBD63F7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60FA43-1FF7-44C8-8A54-4CB721F2B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7E2A3-DECE-465E-B595-0FF1E21B7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134E4B-B711-4B6D-A352-EA07ABC42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F94F6-A82C-4464-B1BF-778523FF8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466CF2-B305-4E88-BBCB-B66EE1C1C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E76FDA-6828-4D39-AEDA-7505619F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2E685-07F3-4EDC-AD3C-30028C74D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6EF0A-AB9A-49F3-8176-FCBB675E3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58FF2-5B29-405F-9D65-4E7625FE9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A23664-CD46-4DD5-9A06-8F6A0161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2EC7A-ED4C-40BB-B720-D001583B55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16C30E-FE76-440D-BE57-1400B4709A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408A63-4D72-4ED6-9E30-069242943B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9F7EDE-0326-4BBC-B447-C722E7D32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74FE63-520C-4488-B731-437662585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75149A-800E-4A02-A01B-00CA8CE06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ECF7B3-DDAC-45ED-9893-8BC5F3090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61CED3-5F3C-4996-B80F-192B02193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43C62C-9729-41E4-BEA6-88CD4A05B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CDEE2A-0306-4D7D-8F95-B0F749BA8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50128A-404A-45D4-963C-B2D1DF3C9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F3FC17-8B05-492E-A729-565DCF487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BF738FA-EC81-4344-BDCD-B9662D811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B26DC7-D23E-4EE5-88BB-6F00F033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9B0E04-5448-43B4-A63B-BEF9D01705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F7CE6A-5464-4260-9DD6-18B9AAA674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B02C02-5981-45D5-BCD1-1797549AB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970453-DD96-4183-A7A4-57F3305BD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5E0B18-B012-496B-973A-0F3F6195F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238110-7399-44CA-8E13-9EE1B37EA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669F75-9D1D-493C-9FB6-A6AE5AF82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AFC43E-0A9C-42B4-B2C9-34F84C725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1D0652-8D81-4126-9E88-3824C6EC8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DDF8F3-CC8D-4739-A7F0-BD27C0F6A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78AF80-9773-4BD2-8CB2-B98D5541F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B60FEB-9B8B-4878-B083-43F6DF007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C9AD8C-5143-4B33-BA1E-3ACA4E2A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32B6BD-7269-48AC-A52C-701456CBD5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DC766E-19C8-400A-916F-FA18380A1F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8B1D63-7E27-428F-A031-F2802CC1A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19B158-4BA7-40B4-9825-A061B9103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C82401-783D-4C58-8B20-5F72FADF6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CA3E69-3AA5-49DD-A28A-978E03F2E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1BD3AD-141D-4D21-9D44-CCAC6A805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E53CF9-52DA-4CF4-8E04-028DB0954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28AFB0-ADB2-4A71-89C2-2B5152296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AAD9F2-13AA-4365-933A-17FC4E399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51276B-DE8C-41E0-9D1D-A6220036F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325601-5CEA-48E5-ACAE-A19D9A653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B46E02-C35A-4C50-B5E2-AFE15A05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8CA218-F480-454E-8100-6FED771257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B43637-7896-4CB2-AB62-BFF85373D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C286B9-E958-4F41-BF3F-A96812C21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ABC21E-A4F3-4025-A1FC-1958D2514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F15660-8F29-49F6-8251-166E43FEF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B54860-B59A-4618-8F86-E5DA25B9B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77A8FA-FEB1-4269-B5F8-3817C5E2A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0C126A-76E3-4283-BF7F-FEC42044B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7E8210-65E4-4C43-BD31-0FE19D97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35786E-BE5B-460B-8628-B48F0280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825722-2CE4-446E-A36B-923A97FE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4941E2-356D-4D91-BC0E-47CA4870A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1C49E5-4545-419C-9529-9EEEE27FF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66F08E-F192-4DBB-8688-6A6A94D81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6EDD6B-42E4-4016-8380-BCB0DAD44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512654-DD98-4433-A026-5B062F9EE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122B67-5EAF-4D13-A8BB-A9E74B43B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548E7E-7A94-4C84-A803-D871D5CD0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A343C1-994A-4E7E-A8B3-C74419EF2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6C0BBF-614B-4EE8-9260-816FE042E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483304-8DA8-4B13-A3BC-742C5C79F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5A261F-90CA-430F-99C1-17C65CCB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48039A-E022-40F1-9BA2-5C23058F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04A680-51AB-41D7-B79D-194AAEC5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92F2AF-2DDE-4432-970F-F289868D4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9D9B62-7906-4281-AC66-F009EAEA3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34C263-30E0-47C4-9884-63BC845E7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916B60-6330-41A8-9A4A-B2FAA884A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4E172A-B472-41F7-99AE-EBBD85493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597A5A-112C-463D-A4D7-B57ED433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88BDF0-E3B6-4857-9246-1AD30C0D2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C4DED3-91E0-417C-9452-076A6B419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E555C1-9FA7-44CC-BABC-C22C30B60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F2215E-2B16-4942-84FB-EB53CA8C4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82B6E6-C0D1-4F02-A3B8-9CA1F67B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51A163-EBFD-4CE0-A8F6-C1216789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90F30E-29AF-420D-ADF7-D4BD0C8E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75F531-571A-4B16-8258-AEDDE31F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CCF75A-7D43-49B0-A4DA-A9D2FB9F6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BF97C8-7904-40A7-B754-C813BBFE7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726BB4-FEE8-44CD-AB3F-A9DAF98A5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2591C8-6F43-4166-B24A-7A353CE68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AC8CFE-0B8C-4B39-B0CA-2F5E3C7F8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0AC183-6DDB-41F4-8DA5-9B16D2CFF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F6D5F2-2856-4BBB-8AAC-2C0AFAF06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3B24D9-EA8D-4985-BBC1-D466533B1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51786D-020A-4437-B942-E58134944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3EE682-6A8D-47E4-9324-76CD80D5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13C2A-C5F7-4031-A430-DE6B27670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D7D4D8-E882-443B-ACC2-C9EB5028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1FA060-A7CA-4562-8883-400B5CC7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028476-861C-4A90-9F14-1D05105D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F31177-5396-4E92-BF53-2E245A926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8EF859-C611-4681-89EB-C9B97B7DD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E7B66C-0E9A-4E34-A8BD-D4E871ED0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C05492-25A1-434E-9606-9CD374AFD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4C0FA3-B15A-452C-A0EF-F055E6655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802F9F-4A90-4631-A37E-5B537CAA2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7FE5F5-4216-416E-AE11-0D2105EA3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15A082-BCE9-425D-891B-F67A4E41C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8DDCEB-6474-4D4E-A1E9-C598E561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08147E-6DFD-40E1-9F9E-F4ABFA8CE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FEAC9C-7B13-4707-B052-584E7958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87F34E-C478-4FC4-AFDB-3F7E5552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F99A27-3FF4-44C3-9C91-7FC991B0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6B6117-9180-41E5-A0A6-B8436B8A9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9A862C-0F54-4517-AAAD-18EC06BF9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C41A3E-75EE-462F-B195-68A45BC8F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1BECBF-4339-4EE4-AB0F-8693C7C46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B13415-96C3-46BB-82E8-CCDDC31F4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58ACF2-FAEE-470F-A4EC-BD4319F2E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F98000-F7F5-43C2-8E36-2822AF143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C61546-522E-4CA1-A765-31B041D3E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8D3782-3AD4-4C0E-9A83-DFFE338E1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0AA1DC-09CA-42CF-91EB-307AF6FDA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81E2F8-4DEC-47C9-8821-92B95783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610FF2-DA71-453C-A8D3-962C9CA5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932D95-4013-434F-BF76-E11ADAA8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9F23AB-7300-41BD-B8BD-62C20FD69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3B75F5-53EF-4544-B24C-6FD19534E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FF8AA0-3B36-472E-8484-F9FB93741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4BD4C4-33F6-40AF-A23E-3840FA3E1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C98BF3-E61E-42F1-B531-E7354027F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90D9C3-2476-4687-8061-A2B51C05F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929F24-2795-4959-8293-21B71A3B8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B9A81B-6225-4E2E-8D73-F8C51F3AD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212115-105A-425A-9E9F-2BABA3A6D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18D2F7-7B6F-499F-890E-6D5BFFB8E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F2617E-2185-4798-80F8-EB738C38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8B5B56-8D22-4FBE-B02B-0E99BC83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08A81A-0593-431D-9880-59F5E724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FDE43F-A856-4DBF-BBF1-B17924983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332347-0EFB-402B-9B1D-002ADD16D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D2C4CB-260C-45F0-9581-986B34B69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B03E10-E2B5-4759-A7FB-4BB25AB04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1C8232-A77C-49A9-8576-D737C7F67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27068E-C76A-4381-A4F4-E3291C08B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8B2132-538B-4C3D-90E1-292C851F6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A5A78B-9FD8-47E0-9EE8-BBB4951F2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3000EF-BCD3-4D03-9D37-62F91295B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6DB281-5580-432D-B3C0-5CD522A63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FD51B1-5968-43E9-9EE2-E7DF8677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D802DC-BCA5-4CEC-A054-0A821336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B08E60-DE9E-4A3A-BDB7-42E524E5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D4D1EB-45E2-46FF-999B-B0CDE9F8C86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E5F043-F29D-4468-BD30-44AEF73BE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433042-CC3D-458C-98FD-710C477C7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2BD395-1AE4-4B75-BE10-465912B2B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8FA301-A5D6-413B-A43B-3B183177E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319981-CFC1-4923-A535-A2ECC45CD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259321-ED77-4104-A011-81143DA77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9AEE4F-F918-4924-8FD4-9E75A728D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D7F390-40ED-4A8F-91CD-D17AD32B5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1C8E6F-C7E6-4288-839D-9AFE1928B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C1F91F-4BE9-4C2F-B199-D0185FA9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1EF770-2908-4D06-B43A-2643065EF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AE6E19-AFD6-4786-9840-3C2C9AA7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55A94A-8117-4540-A57D-0ABA40C1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042230-544A-4736-9AE2-989A4E29B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D3E64B-7CF0-4110-9EED-56DCFE818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688F4E-5980-4E30-9A5E-EC9A22786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440F71-337F-4B00-8D53-DE116AD51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EC612E-F3A1-4111-8627-E2F7E7593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C8C537-A796-4830-852C-9DF77613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BAA225-9AD7-4A44-A611-2F68B3671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4E66CF-8C57-4612-8CFD-77E106605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FC5986-DB87-4E87-BF61-30D9BC19A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23EB93-4D40-4CD3-A133-6310F8DBE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A090D0-EA9A-4122-B205-4CFD4BF5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4D6D9F-6C47-4C6F-91AC-5CB24ECD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4DD021-66AA-437C-9FC8-3677A7F4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088796-A658-496B-8E73-50D1C7772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328436-28F9-44F7-965F-CF28F46EE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C0D482-60BC-46FB-9B20-AC047451E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B7A7F7-1AA6-4DF0-A043-47840D947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EA36DD-157F-4377-8F26-3A31935EC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1076F7-F10E-4FF8-8C9F-3F52F3159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7CD42C-85FC-4EA0-B3C0-E99B75A8F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7789A5-0F79-4DCC-9AA1-6C96EC8AE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B30D12-F817-4985-A96E-7F3FCDD79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939666-6967-4F17-8FF0-A957AC1D7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C2DD21-7867-4958-872D-61EABD06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A1337F-B866-457F-8276-C6FCF797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186AFF-53E4-4669-B160-487A0067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80907E-694B-4246-9089-ED196E5B3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6975E0-CBD5-46BC-AE76-0A8294EB3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E33EA8-23C8-4113-BBD7-B2B0D3D0C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2641FC-C61E-48F3-8835-31C70AE06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2F200-C24A-4582-9940-2AD584763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E3C61A-03B3-4C95-9F53-1115CA3D4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3A7668-EF3A-460E-BB9E-DA4077567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0272F3-117F-4A22-A07B-87C8E4BF7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111DBE-E546-4356-AF5B-F39256452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BC08EF-F521-4EE4-9D34-CA3B2076B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E25FFC-6C05-4A6D-A263-5E27A8A0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D2DA2B-756E-4152-BE4B-10FA8B9B4D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EC5E6-3B34-48AB-8424-45085F07AB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F4962-E297-4A9D-9C18-3DE09E2AB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4F275-921B-4B8D-940F-5A9AA9669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FA27C-0E06-45D5-B704-E7F075789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6C79E-93BA-4074-8FCE-15B8DC035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54B49-628B-4C22-979F-5CBAC6E04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4E203-E90F-4F85-A209-DF4EE32CA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95252-B5CD-4BF9-9259-0A79EC3B6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B81FB-B69C-47FE-A266-88CBF6FA6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54DAB-09B0-4CD3-8CCA-CCB214540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3C0D0-EE04-488F-8496-9037BD23C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AB94B-B06E-440C-B4E0-E3083E65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0DF89-A33B-450A-B579-604129B4D4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17C571-A8A3-4B4C-9DBD-AE75F847D1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5E1FB-ED91-4981-B81B-871386AC5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07970A-BF00-4F0D-9917-DAB626EE4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1D8774-991D-417C-BC56-625E7BBB8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F91975-C891-4F6C-9CE8-EFD5B23C2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DF964F-AF3F-4CD9-B2E8-246213A44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108A8B-D82E-4F8F-BFFB-F558C825B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F5E480-FC52-437B-86F2-31CA311A8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350DA8-D156-4AB7-A88A-3FDBD6E16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E92696-9737-45C9-936F-DA22F9797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961A3B-465E-45D7-B617-9C996940B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859A30-5466-42EA-AA53-432B6532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68736-BC81-4685-AE41-74BA4DEE5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A0AFC9-6DC4-4C89-B31B-027AA4D969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96B839-AF83-4B04-A79F-D993D48814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844DF8D-A687-421B-A6B4-EBA7E1AC1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08687C-C389-4622-8F87-91AC685C3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42D7384-6146-4AE3-AFD5-25508DF2B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A14A85-AE5E-444D-BD51-A6415149B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0877786-3729-4895-ABA0-63DE4AA52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BB89F0-DF60-450E-A3F9-1EF842247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365A87-6821-4E7D-8A58-21C90B18E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255FC7-AAFB-4C4A-8487-61B83C3B2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ACCA2-E952-474A-B692-FC15F6D8D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9FF485C-6C18-4A5F-A8E8-CD08F71BE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8A63189-B933-4B7C-83A0-B5202906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C1E7F4-A090-4085-A954-0834FF4AF8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9B14B-5EC5-48F3-B1C2-2C2A8535A6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B0B5E-0A7C-4001-ACEF-3C06378B6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B7E26-FA43-4134-9C3B-34C5764D3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AD9D5-4DF1-4E8D-A5B1-7E38CFDF4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A5A22-8631-4902-BBDD-5FA8A63D9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7F1B3-2561-462D-A797-D07854AE6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D252E-83FF-47C2-9D73-9CB33553F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49555-0B44-4E7D-95C5-C5AC4BA79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B8B2D-D630-4E62-9576-26B99E0D4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67C01-7001-458E-86C2-C06774029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D0548-F0C7-4AE9-BB1B-F2CDCBDD3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9C522-3198-45F7-B5E9-70BF4BFD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AB626-AD10-458B-83BC-6AAA92DBB5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4BB122-B798-450A-94B0-0DA9AE8A76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5A4EF8-4862-45EE-8121-6126B3A2F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A2F426-DC1B-4F57-8A42-3B8FD9480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F5292C-9FEA-430A-B670-BAB3FFE89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1F3099-590F-4A53-B0F4-168BD059B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1B389-F16B-4253-89B4-EE025D203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CA6AB9-EA89-4289-A0CB-5D994A404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9B8CF9-D02D-4B9B-8652-D96B1315B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27D44C-0F36-4038-8AF3-357F38A77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66C057-A7E9-4B34-A0EE-9818FBCFF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B0E613-0445-4E77-85A0-FA0B0D1F9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B22265-0CBA-472A-83FD-7344049C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79EB4B-CF7C-4527-99A8-813EC93D0C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97C84F5-F91E-46E0-AF04-FF709FE3C3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006FD0A-9870-401B-B11B-A41E76228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CDA4931-A784-4569-9922-2E88B8BDF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D5BD2-5D9B-44D8-81D9-684CD936A0B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308CA-34C7-4BC3-8B58-050299E03D3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B2DF3-9020-47AB-8E53-B11206F9C51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A3DCC-F7F7-461E-93E6-E0BEA67D063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62CC3-4A43-4077-A087-87CD35D9B49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EA4FE-5DCF-4CA8-8CFB-8A1C1DEAD25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F64EC-2D2F-4F54-A29C-1C6353C25A8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1475B-A121-40C6-A557-4C0301A1712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C694-42DB-4CBC-B534-1A1ECDBDA08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B78B4-8AFD-4A67-A67D-B602AB09D06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F01A3-A66F-4EB5-B4B1-F974DC99669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1F9B2-DE48-4B47-9CEE-6A601433202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8444A-C31E-4E80-91BB-FF3110F5962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13152-7A22-4207-B4C2-7829A8733F4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6A4D0-92D6-427C-9632-7ABCFF754EA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0DEBB-C624-4736-A616-3E86B0E2348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D5048-F2F8-4215-9895-367B5D18B73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A5105-92B9-4B6E-A9B1-2CF9312C6DA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4C653-8E80-47AE-9152-CC219B0FA96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97A04-3C01-4D32-AC6F-F9BD9B33963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76B54-1343-40B6-804C-6CD5245112A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1486A-7F47-4CF2-A2DF-46C8B7DB7AB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51FEE-5BDD-47F0-8923-1163816F991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C19A5-5443-4C70-9754-C797177C919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二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2895480" y="2727360"/>
            <a:ext cx="559080" cy="46368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281160" y="2655720"/>
            <a:ext cx="8443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en-US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 练  习  课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306160" y="2400480"/>
            <a:ext cx="6490080" cy="56880"/>
            <a:chOff x="2306160" y="2400480"/>
            <a:chExt cx="6490080" cy="56880"/>
          </a:xfrm>
        </p:grpSpPr>
        <p:sp>
          <p:nvSpPr>
            <p:cNvPr id="990" name="Line 10"/>
            <p:cNvSpPr/>
            <p:nvPr/>
          </p:nvSpPr>
          <p:spPr>
            <a:xfrm flipV="1">
              <a:off x="2306520" y="2400480"/>
              <a:ext cx="6489720" cy="5688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 rot="10800000">
              <a:off x="2306160" y="2400120"/>
              <a:ext cx="6489720" cy="5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1384200" y="1744560"/>
            <a:ext cx="910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角的初步认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文本框 3"/>
          <p:cNvSpPr/>
          <p:nvPr/>
        </p:nvSpPr>
        <p:spPr>
          <a:xfrm>
            <a:off x="423720" y="1092240"/>
            <a:ext cx="46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写在下面的角分别是什么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任意多边形 5"/>
          <p:cNvSpPr/>
          <p:nvPr/>
        </p:nvSpPr>
        <p:spPr>
          <a:xfrm>
            <a:off x="712800" y="1913040"/>
            <a:ext cx="893880" cy="671400"/>
          </a:xfrm>
          <a:custGeom>
            <a:avLst/>
            <a:gdLst/>
            <a:ahLst/>
            <a:rect l="l" t="t" r="r" b="b"/>
            <a:pathLst>
              <a:path w="893445" h="671830">
                <a:moveTo>
                  <a:pt x="0" y="16510"/>
                </a:moveTo>
                <a:lnTo>
                  <a:pt x="319405" y="671830"/>
                </a:lnTo>
                <a:lnTo>
                  <a:pt x="893445" y="0"/>
                </a:lnTo>
              </a:path>
            </a:pathLst>
          </a:custGeom>
          <a:noFill/>
          <a:ln w="1260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任意多边形 6"/>
          <p:cNvSpPr/>
          <p:nvPr/>
        </p:nvSpPr>
        <p:spPr>
          <a:xfrm>
            <a:off x="2514600" y="1913040"/>
            <a:ext cx="771480" cy="679320"/>
          </a:xfrm>
          <a:custGeom>
            <a:avLst/>
            <a:gdLst/>
            <a:ahLst/>
            <a:rect l="l" t="t" r="r" b="b"/>
            <a:pathLst>
              <a:path w="770255" h="680085">
                <a:moveTo>
                  <a:pt x="0" y="0"/>
                </a:moveTo>
                <a:lnTo>
                  <a:pt x="0" y="680085"/>
                </a:lnTo>
                <a:lnTo>
                  <a:pt x="770255" y="680085"/>
                </a:lnTo>
              </a:path>
            </a:pathLst>
          </a:custGeom>
          <a:noFill/>
          <a:ln w="1260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任意多边形 7"/>
          <p:cNvSpPr/>
          <p:nvPr/>
        </p:nvSpPr>
        <p:spPr>
          <a:xfrm>
            <a:off x="4022640" y="1913040"/>
            <a:ext cx="1393920" cy="573120"/>
          </a:xfrm>
          <a:custGeom>
            <a:avLst/>
            <a:gdLst/>
            <a:ahLst/>
            <a:rect l="l" t="t" r="r" b="b"/>
            <a:pathLst>
              <a:path w="1393190" h="573405">
                <a:moveTo>
                  <a:pt x="0" y="573405"/>
                </a:moveTo>
                <a:lnTo>
                  <a:pt x="655320" y="0"/>
                </a:lnTo>
                <a:lnTo>
                  <a:pt x="1393190" y="516255"/>
                </a:lnTo>
              </a:path>
            </a:pathLst>
          </a:custGeom>
          <a:noFill/>
          <a:ln w="1260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任意多边形 8"/>
          <p:cNvSpPr/>
          <p:nvPr/>
        </p:nvSpPr>
        <p:spPr>
          <a:xfrm>
            <a:off x="5911920" y="1984320"/>
            <a:ext cx="909720" cy="476280"/>
          </a:xfrm>
          <a:custGeom>
            <a:avLst/>
            <a:gdLst/>
            <a:ahLst/>
            <a:rect l="l" t="t" r="r" b="b"/>
            <a:pathLst>
              <a:path w="909320" h="475615">
                <a:moveTo>
                  <a:pt x="843915" y="0"/>
                </a:moveTo>
                <a:lnTo>
                  <a:pt x="0" y="475615"/>
                </a:lnTo>
                <a:lnTo>
                  <a:pt x="909320" y="352425"/>
                </a:lnTo>
              </a:path>
            </a:pathLst>
          </a:custGeom>
          <a:noFill/>
          <a:ln w="1260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任意多边形 9"/>
          <p:cNvSpPr/>
          <p:nvPr/>
        </p:nvSpPr>
        <p:spPr>
          <a:xfrm>
            <a:off x="7210440" y="1984320"/>
            <a:ext cx="1311120" cy="523800"/>
          </a:xfrm>
          <a:custGeom>
            <a:avLst/>
            <a:gdLst/>
            <a:ahLst/>
            <a:rect l="l" t="t" r="r" b="b"/>
            <a:pathLst>
              <a:path w="1310640" h="524510">
                <a:moveTo>
                  <a:pt x="0" y="16510"/>
                </a:moveTo>
                <a:lnTo>
                  <a:pt x="573405" y="524510"/>
                </a:lnTo>
                <a:lnTo>
                  <a:pt x="1310640" y="0"/>
                </a:lnTo>
              </a:path>
            </a:pathLst>
          </a:custGeom>
          <a:noFill/>
          <a:ln w="1260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文本框 10"/>
          <p:cNvSpPr/>
          <p:nvPr/>
        </p:nvSpPr>
        <p:spPr>
          <a:xfrm>
            <a:off x="372960" y="2981160"/>
            <a:ext cx="877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      ）角       （       ）角      （       ）角     （       ）角  （      ）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文本框 11"/>
          <p:cNvSpPr/>
          <p:nvPr/>
        </p:nvSpPr>
        <p:spPr>
          <a:xfrm>
            <a:off x="882720" y="2990880"/>
            <a:ext cx="5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文本框 13"/>
          <p:cNvSpPr/>
          <p:nvPr/>
        </p:nvSpPr>
        <p:spPr>
          <a:xfrm>
            <a:off x="2690640" y="2981160"/>
            <a:ext cx="5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文本框 14"/>
          <p:cNvSpPr/>
          <p:nvPr/>
        </p:nvSpPr>
        <p:spPr>
          <a:xfrm>
            <a:off x="4516560" y="2971800"/>
            <a:ext cx="59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文本框 17"/>
          <p:cNvSpPr/>
          <p:nvPr/>
        </p:nvSpPr>
        <p:spPr>
          <a:xfrm>
            <a:off x="6294600" y="2978280"/>
            <a:ext cx="59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文本框 18"/>
          <p:cNvSpPr/>
          <p:nvPr/>
        </p:nvSpPr>
        <p:spPr>
          <a:xfrm>
            <a:off x="7790040" y="2986200"/>
            <a:ext cx="59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文本框 1"/>
          <p:cNvSpPr/>
          <p:nvPr/>
        </p:nvSpPr>
        <p:spPr>
          <a:xfrm>
            <a:off x="650880" y="728640"/>
            <a:ext cx="286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数一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等腰三角形 2"/>
          <p:cNvSpPr/>
          <p:nvPr/>
        </p:nvSpPr>
        <p:spPr>
          <a:xfrm>
            <a:off x="1609560" y="1569960"/>
            <a:ext cx="1297080" cy="107964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任意多边形 3"/>
          <p:cNvSpPr/>
          <p:nvPr/>
        </p:nvSpPr>
        <p:spPr>
          <a:xfrm>
            <a:off x="5280120" y="1589040"/>
            <a:ext cx="1401840" cy="1081080"/>
          </a:xfrm>
          <a:custGeom>
            <a:avLst/>
            <a:gdLst/>
            <a:ahLst/>
            <a:rect l="l" t="t" r="r" b="b"/>
            <a:pathLst>
              <a:path w="1400810" h="1081405">
                <a:moveTo>
                  <a:pt x="1393190" y="0"/>
                </a:moveTo>
                <a:lnTo>
                  <a:pt x="0" y="0"/>
                </a:lnTo>
                <a:lnTo>
                  <a:pt x="0" y="1081405"/>
                </a:lnTo>
                <a:lnTo>
                  <a:pt x="1400810" y="1081405"/>
                </a:lnTo>
              </a:path>
            </a:pathLst>
          </a:custGeom>
          <a:noFill/>
          <a:ln w="1260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任意多边形 5"/>
          <p:cNvSpPr/>
          <p:nvPr/>
        </p:nvSpPr>
        <p:spPr>
          <a:xfrm>
            <a:off x="6354720" y="1587600"/>
            <a:ext cx="588960" cy="1082520"/>
          </a:xfrm>
          <a:custGeom>
            <a:avLst/>
            <a:gdLst/>
            <a:ahLst/>
            <a:rect l="l" t="t" r="r" b="b"/>
            <a:pathLst>
              <a:path w="588871" h="1082040">
                <a:moveTo>
                  <a:pt x="293953" y="1082040"/>
                </a:moveTo>
                <a:cubicBezTo>
                  <a:pt x="239343" y="1036955"/>
                  <a:pt x="13283" y="934720"/>
                  <a:pt x="72338" y="828040"/>
                </a:cubicBezTo>
                <a:cubicBezTo>
                  <a:pt x="131393" y="721360"/>
                  <a:pt x="601928" y="665480"/>
                  <a:pt x="588593" y="549275"/>
                </a:cubicBezTo>
                <a:cubicBezTo>
                  <a:pt x="575258" y="433070"/>
                  <a:pt x="62813" y="355600"/>
                  <a:pt x="6933" y="245745"/>
                </a:cubicBezTo>
                <a:cubicBezTo>
                  <a:pt x="-48947" y="135890"/>
                  <a:pt x="249503" y="45720"/>
                  <a:pt x="310463" y="0"/>
                </a:cubicBezTo>
              </a:path>
            </a:pathLst>
          </a:custGeom>
          <a:noFill/>
          <a:ln w="1260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梯形 6"/>
          <p:cNvSpPr/>
          <p:nvPr/>
        </p:nvSpPr>
        <p:spPr>
          <a:xfrm flipV="1">
            <a:off x="1549440" y="4004640"/>
            <a:ext cx="1511280" cy="936360"/>
          </a:xfrm>
          <a:custGeom>
            <a:avLst/>
            <a:gdLst/>
            <a:ahLst/>
            <a:rect l="l" t="t" r="r" b="b"/>
            <a:pathLst>
              <a:path w="1511300" h="936625">
                <a:moveTo>
                  <a:pt x="0" y="936625"/>
                </a:moveTo>
                <a:lnTo>
                  <a:pt x="234156" y="0"/>
                </a:lnTo>
                <a:lnTo>
                  <a:pt x="1277143" y="0"/>
                </a:lnTo>
                <a:lnTo>
                  <a:pt x="1511300" y="936625"/>
                </a:lnTo>
                <a:close/>
              </a:path>
            </a:pathLst>
          </a:custGeom>
          <a:noFill/>
          <a:ln w="1260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流程图: 决策 8"/>
          <p:cNvSpPr/>
          <p:nvPr/>
        </p:nvSpPr>
        <p:spPr>
          <a:xfrm>
            <a:off x="5038560" y="3946680"/>
            <a:ext cx="2187720" cy="1089000"/>
          </a:xfrm>
          <a:prstGeom prst="flowChartDecision">
            <a:avLst/>
          </a:prstGeom>
          <a:noFill/>
          <a:ln w="1260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文本框 9"/>
          <p:cNvSpPr/>
          <p:nvPr/>
        </p:nvSpPr>
        <p:spPr>
          <a:xfrm>
            <a:off x="1047600" y="2995560"/>
            <a:ext cx="7148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       ）个锐角                          （        ）个直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       ）个锐角                           （        ）个锐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       ）个钝角                           （        ）个钝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文本框 10"/>
          <p:cNvSpPr/>
          <p:nvPr/>
        </p:nvSpPr>
        <p:spPr>
          <a:xfrm>
            <a:off x="1577880" y="2955960"/>
            <a:ext cx="4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文本框 11"/>
          <p:cNvSpPr/>
          <p:nvPr/>
        </p:nvSpPr>
        <p:spPr>
          <a:xfrm>
            <a:off x="5437080" y="2959200"/>
            <a:ext cx="4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文本框 12"/>
          <p:cNvSpPr/>
          <p:nvPr/>
        </p:nvSpPr>
        <p:spPr>
          <a:xfrm>
            <a:off x="1560600" y="5148360"/>
            <a:ext cx="44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文本框 13"/>
          <p:cNvSpPr/>
          <p:nvPr/>
        </p:nvSpPr>
        <p:spPr>
          <a:xfrm>
            <a:off x="1577880" y="5521320"/>
            <a:ext cx="4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文本框 14"/>
          <p:cNvSpPr/>
          <p:nvPr/>
        </p:nvSpPr>
        <p:spPr>
          <a:xfrm>
            <a:off x="5492880" y="5138640"/>
            <a:ext cx="44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文本框 15"/>
          <p:cNvSpPr/>
          <p:nvPr/>
        </p:nvSpPr>
        <p:spPr>
          <a:xfrm>
            <a:off x="5513400" y="5514840"/>
            <a:ext cx="4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文本框 1"/>
          <p:cNvSpPr/>
          <p:nvPr/>
        </p:nvSpPr>
        <p:spPr>
          <a:xfrm>
            <a:off x="369720" y="804960"/>
            <a:ext cx="57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按要求画一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文本框 2"/>
          <p:cNvSpPr/>
          <p:nvPr/>
        </p:nvSpPr>
        <p:spPr>
          <a:xfrm>
            <a:off x="587520" y="1273320"/>
            <a:ext cx="79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你能用三角尺将下面的图形补充为直角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文本框 3"/>
          <p:cNvSpPr/>
          <p:nvPr/>
        </p:nvSpPr>
        <p:spPr>
          <a:xfrm>
            <a:off x="571680" y="3352680"/>
            <a:ext cx="79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按要求在下面的图形中分别画上一条直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文本框 4"/>
          <p:cNvSpPr/>
          <p:nvPr/>
        </p:nvSpPr>
        <p:spPr>
          <a:xfrm>
            <a:off x="1044720" y="4054320"/>
            <a:ext cx="67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形成一个锐角          形成两个角           形成四个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直接连接符 5"/>
          <p:cNvSpPr/>
          <p:nvPr/>
        </p:nvSpPr>
        <p:spPr>
          <a:xfrm>
            <a:off x="1623960" y="2548080"/>
            <a:ext cx="1452600" cy="51912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直接连接符 6"/>
          <p:cNvSpPr/>
          <p:nvPr/>
        </p:nvSpPr>
        <p:spPr>
          <a:xfrm>
            <a:off x="5043600" y="2900520"/>
            <a:ext cx="130176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直接连接符 7"/>
          <p:cNvSpPr/>
          <p:nvPr/>
        </p:nvSpPr>
        <p:spPr>
          <a:xfrm>
            <a:off x="1479600" y="4906800"/>
            <a:ext cx="1436760" cy="754200"/>
          </a:xfrm>
          <a:prstGeom prst="line">
            <a:avLst/>
          </a:prstGeom>
          <a:ln w="1260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直接连接符 8"/>
          <p:cNvSpPr/>
          <p:nvPr/>
        </p:nvSpPr>
        <p:spPr>
          <a:xfrm>
            <a:off x="3838680" y="4890960"/>
            <a:ext cx="1436760" cy="754200"/>
          </a:xfrm>
          <a:prstGeom prst="line">
            <a:avLst/>
          </a:prstGeom>
          <a:ln w="1260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直接连接符 9"/>
          <p:cNvSpPr/>
          <p:nvPr/>
        </p:nvSpPr>
        <p:spPr>
          <a:xfrm>
            <a:off x="6197760" y="4890960"/>
            <a:ext cx="1438200" cy="754200"/>
          </a:xfrm>
          <a:prstGeom prst="line">
            <a:avLst/>
          </a:prstGeom>
          <a:ln w="1260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直接连接符 10"/>
          <p:cNvSpPr/>
          <p:nvPr/>
        </p:nvSpPr>
        <p:spPr>
          <a:xfrm flipV="1">
            <a:off x="3062160" y="1844640"/>
            <a:ext cx="505080" cy="12304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直接连接符 11"/>
          <p:cNvSpPr/>
          <p:nvPr/>
        </p:nvSpPr>
        <p:spPr>
          <a:xfrm flipV="1">
            <a:off x="5041800" y="1837800"/>
            <a:ext cx="0" cy="1070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直接连接符 12"/>
          <p:cNvSpPr/>
          <p:nvPr/>
        </p:nvSpPr>
        <p:spPr>
          <a:xfrm flipH="1" flipV="1">
            <a:off x="1479600" y="4906440"/>
            <a:ext cx="1573200" cy="179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直接连接符 13"/>
          <p:cNvSpPr/>
          <p:nvPr/>
        </p:nvSpPr>
        <p:spPr>
          <a:xfrm flipH="1">
            <a:off x="4492800" y="5086440"/>
            <a:ext cx="863280" cy="1429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直接连接符 14"/>
          <p:cNvSpPr/>
          <p:nvPr/>
        </p:nvSpPr>
        <p:spPr>
          <a:xfrm flipH="1">
            <a:off x="6107040" y="5157720"/>
            <a:ext cx="1687680" cy="2811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文本框 1"/>
          <p:cNvSpPr/>
          <p:nvPr/>
        </p:nvSpPr>
        <p:spPr>
          <a:xfrm>
            <a:off x="593640" y="809640"/>
            <a:ext cx="469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数一数下面图形中的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8" name="组合 6"/>
          <p:cNvGrpSpPr/>
          <p:nvPr/>
        </p:nvGrpSpPr>
        <p:grpSpPr>
          <a:xfrm>
            <a:off x="856800" y="1782360"/>
            <a:ext cx="2514960" cy="1205280"/>
            <a:chOff x="856800" y="1782360"/>
            <a:chExt cx="2514960" cy="1205280"/>
          </a:xfrm>
        </p:grpSpPr>
        <p:sp>
          <p:nvSpPr>
            <p:cNvPr id="1039" name="直接连接符 2"/>
            <p:cNvSpPr/>
            <p:nvPr/>
          </p:nvSpPr>
          <p:spPr>
            <a:xfrm>
              <a:off x="1757520" y="2987640"/>
              <a:ext cx="1614240" cy="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直接连接符 3"/>
            <p:cNvSpPr/>
            <p:nvPr/>
          </p:nvSpPr>
          <p:spPr>
            <a:xfrm flipV="1">
              <a:off x="1756080" y="1782360"/>
              <a:ext cx="0" cy="120492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直接连接符 4"/>
            <p:cNvSpPr/>
            <p:nvPr/>
          </p:nvSpPr>
          <p:spPr>
            <a:xfrm flipV="1">
              <a:off x="1757520" y="2044800"/>
              <a:ext cx="942120" cy="94248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直接连接符 5"/>
            <p:cNvSpPr/>
            <p:nvPr/>
          </p:nvSpPr>
          <p:spPr>
            <a:xfrm flipH="1" flipV="1">
              <a:off x="856800" y="2085480"/>
              <a:ext cx="901080" cy="90180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3" name="文本框 7"/>
          <p:cNvSpPr/>
          <p:nvPr/>
        </p:nvSpPr>
        <p:spPr>
          <a:xfrm>
            <a:off x="4529160" y="1787400"/>
            <a:ext cx="29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       ）个锐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       ）个直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       ）个钝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文本框 8"/>
          <p:cNvSpPr/>
          <p:nvPr/>
        </p:nvSpPr>
        <p:spPr>
          <a:xfrm>
            <a:off x="5000760" y="177480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文本框 9"/>
          <p:cNvSpPr/>
          <p:nvPr/>
        </p:nvSpPr>
        <p:spPr>
          <a:xfrm>
            <a:off x="5000760" y="215568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文本框 10"/>
          <p:cNvSpPr/>
          <p:nvPr/>
        </p:nvSpPr>
        <p:spPr>
          <a:xfrm>
            <a:off x="4992840" y="252720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4T08:22:00Z</dcterms:created>
  <dc:creator/>
  <dc:description/>
  <dc:language>en-US</dc:language>
  <cp:lastModifiedBy>万润仪器贸易公司</cp:lastModifiedBy>
  <dcterms:modified xsi:type="dcterms:W3CDTF">2020-08-21T00:42:44Z</dcterms:modified>
  <cp:revision>1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